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99285"/>
        <c:axId val="9358820"/>
      </c:barChart>
      <c:catAx>
        <c:axId val="55599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8820"/>
        <c:crosses val="autoZero"/>
        <c:auto val="1"/>
        <c:lblAlgn val="ctr"/>
        <c:lblOffset val="100"/>
        <c:noMultiLvlLbl val="0"/>
      </c:catAx>
      <c:valAx>
        <c:axId val="9358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9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A7E-0061-4FCC-9FC3-C6BE671B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4EC-75A3-400B-BC40-6116769E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7B4-153D-46C4-95B8-9138D6FB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305-F546-47F8-A82E-D0513D6D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1F1-B08D-4355-99BD-70B21C71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04B-78BE-4ADE-AF73-01313D3B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F1F-0C46-44DE-BC47-7F79FE4F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F9F-FFC5-451F-AEC7-437B7BE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17B-37C4-4059-977D-00DD2981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E10-4A6C-4380-AB64-EAD72AE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2DB-15E3-42F1-9F8C-958C3CC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FE8-ACEB-4935-AB96-C35478C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70BBA-5536-4CB5-B379-145B4FCE5A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