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17926"/>
        <c:axId val="14036171"/>
      </c:barChart>
      <c:catAx>
        <c:axId val="92817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36171"/>
        <c:crosses val="autoZero"/>
        <c:auto val="1"/>
        <c:lblAlgn val="ctr"/>
        <c:lblOffset val="100"/>
        <c:noMultiLvlLbl val="0"/>
      </c:catAx>
      <c:valAx>
        <c:axId val="14036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17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6F4-D1DE-4079-A0BB-9B7DF5FF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225-0FCF-4A38-BBA7-C7D134D7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3CC-F2DD-4141-A6B9-86BE2C38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349-0347-4692-92E7-D285B867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519-2857-4F7A-833E-9347D402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053-7857-4AEF-825F-3BBE4CD7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ECB-2BFF-43FF-9DA1-17822BA2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C0F-19A8-47ED-BDED-874995CF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A01-192B-4699-9FD8-46C9D386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1FA-4FBF-46F2-AD87-98F5EC5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914-F4E4-4628-8891-613B8441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2B9-5EFD-4193-B483-6D4339E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B0F55-0F65-4D7D-B3C2-791A2D1ED5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