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88153"/>
        <c:axId val="31663246"/>
      </c:barChart>
      <c:catAx>
        <c:axId val="82588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3246"/>
        <c:crosses val="autoZero"/>
        <c:auto val="1"/>
        <c:lblAlgn val="ctr"/>
        <c:lblOffset val="100"/>
        <c:noMultiLvlLbl val="0"/>
      </c:catAx>
      <c:valAx>
        <c:axId val="31663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88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D89-A93F-48B1-AF54-E52CBDE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E0E-3F0B-46F4-9148-88A33A17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6AD-8CA6-40CB-A28B-5066F092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254-2643-4E71-8CE0-8BC19538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370-F3A6-448E-8BE4-29C314C2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812-D339-4132-BC88-74415AEC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B63-8FD1-4756-A55C-4112EAAC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D25-5888-4218-8455-A28F8794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7B4-08F5-473E-8ACA-EC6B3944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9D4-E1BF-478A-A341-FC01C8A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796-8697-4660-90E9-DA17218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FAD-9B66-4A99-842C-0A04210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87299-261E-4E00-9616-59E5CA491A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