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53365"/>
        <c:axId val="36589479"/>
      </c:barChart>
      <c:catAx>
        <c:axId val="85853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89479"/>
        <c:crosses val="autoZero"/>
        <c:auto val="1"/>
        <c:lblAlgn val="ctr"/>
        <c:lblOffset val="100"/>
        <c:noMultiLvlLbl val="0"/>
      </c:catAx>
      <c:valAx>
        <c:axId val="36589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53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E06-D2EE-4242-A1DF-2C913DC4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EF0-1310-4D8B-AD5D-AA2A5B8A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7A7-098F-4845-A7A1-AAED21A8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00A-F602-49DC-BA1C-F0A175A8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44B-3C40-4855-BB79-3CB04BCF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07B-982F-4B58-9363-76B60C2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6B1-987A-4AF7-B6D3-55921F83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313-6835-4EDD-9864-2BA7DE60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996-9EEE-4A55-B6AE-8DDE13B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884-EFD9-4984-9F55-ECAD7923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21E-02C6-4008-8D67-FB4B0CDE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9F0-5580-4F00-BA82-DA335C8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FDAE9-1B17-4CB8-B037-C1C8F75C8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