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27883"/>
        <c:axId val="74381141"/>
      </c:barChart>
      <c:catAx>
        <c:axId val="64127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81141"/>
        <c:crosses val="autoZero"/>
        <c:auto val="1"/>
        <c:lblAlgn val="ctr"/>
        <c:lblOffset val="100"/>
        <c:noMultiLvlLbl val="0"/>
      </c:catAx>
      <c:valAx>
        <c:axId val="74381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27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43A-7561-48CC-91F7-CB21356A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277-2467-4A03-94AF-E3A23888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C57-E770-4118-AD0A-7F07B1A2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1AC-26F4-41B6-B637-B8F43D05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A3B-BD65-4FEA-9024-66B46B4A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6D9-045D-4838-B86C-47E69AA1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3B6-A4F1-4428-8EEC-8C314B2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11A-CE98-40A6-9D14-95D697B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68C-59F9-4711-8828-4B7193E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031-86F0-4FAF-BDB1-EA7469A0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77C-4218-42BE-B310-76A32D60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EBD-31D8-4DA3-AFAE-4869AEE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63ED0-A558-4553-B180-5D24167682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