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27983"/>
        <c:axId val="68251166"/>
      </c:barChart>
      <c:catAx>
        <c:axId val="36927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1166"/>
        <c:crosses val="autoZero"/>
        <c:auto val="1"/>
        <c:lblAlgn val="ctr"/>
        <c:lblOffset val="100"/>
        <c:noMultiLvlLbl val="0"/>
      </c:catAx>
      <c:valAx>
        <c:axId val="68251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27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51B-5E6D-4293-930A-B074497D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FDC-2418-49B1-B447-3DF89C8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0D6-22D8-46EC-AE18-7E0B042C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1FD-3E8F-4A5B-9E4A-8FFAB0AF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9E0-7FCC-4809-A431-09F4AC3B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6BF-B702-4AAF-8913-7BCCBF21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0B2-AA33-4432-B595-980D706A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512-3923-4234-90A2-4001BF3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E10-D5E0-4D94-A9FD-2F31220F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D40-B8D1-43DF-B418-51667AA2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56A-49CF-403F-A61C-8801C3A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9FB-CD3F-400A-B836-58D033A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23E6-59BB-49C6-B837-922DE62BC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