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51567"/>
        <c:axId val="29814761"/>
      </c:barChart>
      <c:catAx>
        <c:axId val="877515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14761"/>
        <c:crosses val="autoZero"/>
        <c:auto val="1"/>
        <c:lblAlgn val="ctr"/>
        <c:lblOffset val="100"/>
        <c:noMultiLvlLbl val="0"/>
      </c:catAx>
      <c:valAx>
        <c:axId val="29814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515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8FD-204E-482A-97FB-D339D758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4C9-94F6-4653-8ECD-3F0885E5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9BF5-A69F-4AFA-9C1C-D7450794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17E1-3D6D-492C-BE1A-C901A893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346E-A84F-4B6B-A934-72B9499F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5FF-4D8F-435E-A251-A59CEEE2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87D3-6ADE-45AF-A48E-EEA4816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916-3772-4B02-BDEB-D5FE9EBF0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FA4-7AE5-403D-9A58-DAB40262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0435-D63B-441D-8614-922C2E42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7364-6E17-45D6-A93E-9FC34FA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3E2-076F-4815-A68D-0F478860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F96CD-0CF0-4634-86F7-A8CF74FFD4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