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95591"/>
        <c:axId val="53438770"/>
      </c:barChart>
      <c:catAx>
        <c:axId val="63595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38770"/>
        <c:crosses val="autoZero"/>
        <c:auto val="1"/>
        <c:lblAlgn val="ctr"/>
        <c:lblOffset val="100"/>
        <c:noMultiLvlLbl val="0"/>
      </c:catAx>
      <c:valAx>
        <c:axId val="53438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95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BFD-3046-4000-A5CC-F248A7E5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F31-E8A6-4E4C-90DB-81991DC7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799-0EB9-4189-B407-06A88167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0C3-E89A-4527-8452-DFF0510E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B4F-0AD0-4BAC-A9DA-911E5360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E1C-FCEF-467F-B6C7-7ED7D7D0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A7A-9829-40F3-872F-55A7BE71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DCD-F267-4F8C-9209-A0DF7364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D7F-3258-4FCE-B5F4-46B15421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0B5-23CA-4747-A184-05222468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3BB-DF4E-4CEB-BCA2-7EC9A178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F5F-8C73-4481-A3F7-4836927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AE2C2-A02E-4622-94E4-52ABF61E9B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