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55218"/>
        <c:axId val="15439305"/>
      </c:barChart>
      <c:catAx>
        <c:axId val="83755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9305"/>
        <c:crosses val="autoZero"/>
        <c:auto val="1"/>
        <c:lblAlgn val="ctr"/>
        <c:lblOffset val="100"/>
        <c:noMultiLvlLbl val="0"/>
      </c:catAx>
      <c:valAx>
        <c:axId val="15439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5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6C5-E3FB-43A3-8035-33F3EC92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7BF-FF39-4197-98B7-83E22C0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EE6-5050-4BEB-A9C9-B62AA490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CB8-623C-45FD-8C43-04F0881A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774-E47E-45AB-8AB4-810CE56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890-8E90-42CF-AADC-1E76E85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358-08BF-4EF0-83B1-D9FEFB00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067-42A9-4545-ABEC-4D172FA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4FD-D2C4-448C-BABF-2097E2A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964-9763-449C-8BAB-85AC4B3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B18-7C47-4D0E-997B-77A6742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052-5F57-48B0-9745-48691B9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094F6-3FB7-4B16-9806-10F653A4AA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