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588612"/>
        <c:axId val="43824905"/>
      </c:barChart>
      <c:catAx>
        <c:axId val="58588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4905"/>
        <c:crosses val="autoZero"/>
        <c:auto val="1"/>
        <c:lblAlgn val="ctr"/>
        <c:lblOffset val="100"/>
        <c:noMultiLvlLbl val="0"/>
      </c:catAx>
      <c:valAx>
        <c:axId val="43824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88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FE3-487E-46D2-804B-C7F09A27F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54A-DED4-4398-BA96-B3DCA0D6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9A41-90CC-461B-BC2D-C721EF7E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E9A-B529-4694-9147-04E40600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BF6-F42F-4189-A8FF-D578EBB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6E4F-6530-4BBA-8A8E-217E196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AE9-39C2-49C3-AC45-CC4CFD15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E36-9146-4CFA-96FD-8F9B3869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20B-251C-47A3-8CE2-1443C55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BF4-902E-429A-AD19-51E8CB5B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14BA-9017-417A-9DF4-AB383CBF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819-BBD3-4801-A10A-C2B208F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D52A9-BD12-4BDA-9D36-0615589948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