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94313"/>
        <c:axId val="78491201"/>
      </c:barChart>
      <c:catAx>
        <c:axId val="41094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1201"/>
        <c:crosses val="autoZero"/>
        <c:auto val="1"/>
        <c:lblAlgn val="ctr"/>
        <c:lblOffset val="100"/>
        <c:noMultiLvlLbl val="0"/>
      </c:catAx>
      <c:valAx>
        <c:axId val="7849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94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82D-3289-44D4-8740-083628A3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570-9BFB-4CD8-B000-8D6FCAC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D08-9C53-4418-A12D-EC500EE4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BEC-F3E4-4E24-B5B8-FFA7FC85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2D5-4DD4-4890-8CBF-528D7CD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9BB-1D83-40CB-A338-6629DFC4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7C4-0188-48DF-9719-25B724B4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B57-1F45-41F1-A3D0-BAA989B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887-48A9-4A94-A695-0F3518EF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466-D0CF-4C40-BFE1-EE26077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596-5CC5-4FED-88C9-1363B04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B10-78F2-48BB-9599-3713C45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965BC-D417-41E2-88B5-21B854C06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