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41842"/>
        <c:axId val="61953952"/>
      </c:barChart>
      <c:catAx>
        <c:axId val="19941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53952"/>
        <c:crosses val="autoZero"/>
        <c:auto val="1"/>
        <c:lblAlgn val="ctr"/>
        <c:lblOffset val="100"/>
        <c:noMultiLvlLbl val="0"/>
      </c:catAx>
      <c:valAx>
        <c:axId val="61953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41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47C-112A-4AF4-9708-BB02E80C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7C7-8904-4E41-A43C-ECAC2075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E0D-99AB-40E3-B2C6-89A30547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7DC-8FCB-4253-B902-A0CA7274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CD2-1B3C-48F5-8441-E7AE0963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8A2-61A7-421B-AF1C-73B7250F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A86-E87D-45FE-9703-5D831873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423-9858-4091-833B-A13E10C1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8A3-BDBA-41B5-83BB-AE077332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DF5-3968-4B8A-AEC3-3C8EEB87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0327-98DD-4672-9211-6D03FCAD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0CD-BD65-43B4-8690-EFBD2E9E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2A41C-7B8A-456F-AB54-9D51B70922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