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2297"/>
        <c:axId val="13605212"/>
      </c:barChart>
      <c:catAx>
        <c:axId val="8102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5212"/>
        <c:crosses val="autoZero"/>
        <c:auto val="1"/>
        <c:lblAlgn val="ctr"/>
        <c:lblOffset val="100"/>
        <c:noMultiLvlLbl val="0"/>
      </c:catAx>
      <c:valAx>
        <c:axId val="13605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2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BFF-2F9D-4B7A-821B-334054D0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7FD-2666-4A32-8EBC-BE1BABD6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2BE-6B0C-42A7-A29B-D7242384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6D2-D981-4D44-A3C3-D33C0A4E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67F-1936-4D0D-8F01-11C0A63C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D3B-24A3-498D-A87A-4243F339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893-FBED-441A-8BE1-E84FDBEA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706-FA54-4B2D-B362-358DAE62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387-CAFA-4221-9AC0-23841CE4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976-42CA-4B9B-9F93-1A797F45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15B-7A02-482B-80A3-35E730E4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03E-390F-4279-A55A-8A06A36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D04D9-4567-4989-A8B9-7D37CDA7BB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