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84354"/>
        <c:axId val="67327084"/>
      </c:barChart>
      <c:catAx>
        <c:axId val="24684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27084"/>
        <c:crosses val="autoZero"/>
        <c:auto val="1"/>
        <c:lblAlgn val="ctr"/>
        <c:lblOffset val="100"/>
        <c:noMultiLvlLbl val="0"/>
      </c:catAx>
      <c:valAx>
        <c:axId val="67327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84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845-9484-469B-9D42-B1DC5417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E79-F88F-4FAC-9960-8A5A4A4D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6AE-3A38-4BEB-94D2-15AEF2BA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E63-5A3B-416A-BA71-08484741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A84-7F9B-47C3-9971-C149481A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9BD-1759-4739-B310-550B87DD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F4A-09C4-495C-8E19-D9571437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4A8-D396-451A-A3FE-6A16BE6E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B9E-5E21-4985-8CF8-2911BC78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8B6-07B6-4ECC-898E-A96869EA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562-6CD2-4D25-ABF8-DDFA4046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E38-6775-4AD7-BFA3-15C71E8E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3C4AB-ED2A-4EF5-8856-28E11FABBE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