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6057"/>
        <c:axId val="3136039"/>
      </c:barChart>
      <c:catAx>
        <c:axId val="1026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6039"/>
        <c:crosses val="autoZero"/>
        <c:auto val="1"/>
        <c:lblAlgn val="ctr"/>
        <c:lblOffset val="100"/>
        <c:noMultiLvlLbl val="0"/>
      </c:catAx>
      <c:valAx>
        <c:axId val="3136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000-9E9C-4784-B402-23982678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3AE-A06F-41FC-98D0-01908384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A35-B597-4B17-AE6A-9795FAAF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CDA-E4E0-4C4B-B3D3-F2E8B9E2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BAA-CDB4-4541-8E98-C1200A3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5CB-04A5-4172-8DFE-66ABAE4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EBC-800A-44BA-A7D2-0C9AC9B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3D6-068D-4327-9047-ECE3742D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095-60D7-4CA2-A288-DBA10B03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BEF-AC83-4763-AA8E-506DE40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888-CC10-4330-96D7-C5C8A5B9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11B-33DC-432B-A10F-B2E28C1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B3DA0-D6F9-4139-B389-AF8B72AFE5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