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08550"/>
        <c:axId val="68155377"/>
      </c:barChart>
      <c:catAx>
        <c:axId val="15208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55377"/>
        <c:crosses val="autoZero"/>
        <c:auto val="1"/>
        <c:lblAlgn val="ctr"/>
        <c:lblOffset val="100"/>
        <c:noMultiLvlLbl val="0"/>
      </c:catAx>
      <c:valAx>
        <c:axId val="68155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08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2D4-8838-47EF-8355-89C4D503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E13-E3F7-4123-9D54-CAF66286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290-3B3F-4BD9-929B-717EEDD1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0F6-05FC-4B9A-9390-C31454B6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652-A7F4-4817-90B2-AE1BA793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F60-9AF6-4B21-AD45-F9971EE3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18F-C26C-41C0-B94D-C069C327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78B-217A-485E-BAE1-D3C98870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7A2-E373-4F59-964D-59139476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0A4-350C-4BAA-81D0-CD48D44F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442-95BD-460F-8264-622C36F7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743-BC12-4820-83FB-97646318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6DD4F-0893-4191-B183-0FC344361D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