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16200"/>
        <c:axId val="78274325"/>
      </c:barChart>
      <c:catAx>
        <c:axId val="51116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74325"/>
        <c:crosses val="autoZero"/>
        <c:auto val="1"/>
        <c:lblAlgn val="ctr"/>
        <c:lblOffset val="100"/>
        <c:noMultiLvlLbl val="0"/>
      </c:catAx>
      <c:valAx>
        <c:axId val="78274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16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CC3-B18C-477D-940D-695BF74E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380-6777-4487-8B66-DB721251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78C-AF9A-40F4-809B-BBBFD110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924-9131-4673-A8B0-E1C2EBF7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1C2-C92E-42E3-BFC2-A2F86D07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1F4-33FD-4A40-ABF9-F0FE4ED5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03B-B726-45F9-8D3E-76A73921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9C3-C1E2-4EB6-8F19-F9ADC6B5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67F-918A-4E14-B3DA-E95F4869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3B4-4B20-42B0-9975-B909642F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5D3-051C-4FFD-965E-00304675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D32-1283-4C3F-A0CE-6BDB6DA9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A81FD-13F5-4397-AB64-2CD66C2B7B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